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A60-8EA3-4FAC-802B-89C24B5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825-4E1D-4B70-9235-CEF35B92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683-9FA5-4186-B070-21CFFA9D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3E0-7DA8-43F2-9CD1-E3A1FB52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42A1-4467-4CED-B852-E86EB154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7E15-EF92-4E42-A7BD-E41180F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2E8C-DF48-4BBE-924C-5878E70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4FB-507E-448D-AFD0-1398FCA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FA76-C418-4627-8DD2-F7C6C8F8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67C6-9352-4DF5-938D-169F80C6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8B3-916E-4FDA-8D9D-3746325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6FA-8B37-4A1C-AF75-F788ECB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6642-D28F-4341-BFC6-CAA8025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035-8A3B-4517-9017-A9484AB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168A-8B9A-4F29-A6E0-A37A990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EECF-2CA7-4C1A-86D4-BA9071EE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CDAC-DB37-4F2C-A6B4-0BD244D4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FAA-B5FD-4ED2-A798-93F0699E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7C1-406C-4461-969B-A90A4C7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6FD-3A8C-4C42-B99D-DA52CEE5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6D7-94FB-4DF4-8E33-1142E20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C97-26A7-4192-B5C5-58F1128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671-50B4-405E-A4C6-0C05AE0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8B4-E075-4E12-B739-6F7BA5F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E9F-8B47-45BC-957D-96022021F5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BBF-86A7-496B-B85E-006EE27625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mbers.tripod.com/davland_52/sitebuildercontent/sitebuilderpictures/bart_simpson_nirvana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remix.vg/wp-content/uploads/8488/fight-for-this-love-cheryl-cole-8845123-635-332.jpg&amp;imgrefurl=http://remix.vg/cheryl-cole-fight-for-this-love-vinylwreckaz-remix-8488/&amp;usg=__Of9Kuun4Yr1FFLWq1x0Ao0z2lMY=&amp;h=332&amp;w=635&amp;sz=125&amp;hl=en&amp;start=7&amp;zoom=1&amp;um=1&amp;itbs=1&amp;tbnid=F-68QgZV04p_cM:&amp;tbnh=72&amp;tbnw=137&amp;prev=/images%3Fq%3Dcheryl%2Bcole%2Bfight%2Bfor%2Bthis%2Blove%26um%3D1%26hl%3Den%26safe%3Dactive%26sa%3DN%26gbv%3D2%26tbs%3Disch:1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lh3.ggpht.com/_4fuBZlXIfbM/SKRBKoDQhmI/AAAAAAAAD5A/dXkw5MuOt4M/Michael%2BDurrant%2BJustin%2BTimberlake%2BDance%2BPose..jpg&amp;imgrefurl=http://picasaweb.google.com/lh/photo/-V32yQ4NZy3tC-PL6n_xDg&amp;usg=__UcTXZJYc150WAjrElcflRGvnYZg=&amp;h=1600&amp;w=1200&amp;sz=107&amp;hl=en&amp;start=16&amp;zoom=1&amp;itbs=1&amp;tbnid=YcOMXYvh1WayGM:&amp;tbnh=150&amp;tbnw=113&amp;prev=/images%3Fq%3Djustin%2Btimberlake%2Bdance%26hl%3Den%26safe%3Dactive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.uk/imgres?imgurl=http://missdothy.com/wp-content/uploads/2009/10/watch-glee-episode-8-mash-up-online-free-streaming.jpg&amp;imgrefurl=http://missdothy.com/glee-episode-8-glee-s01e08/&amp;usg=__YJJDKI3v3d3yhHtfQoLx4AuCSF0=&amp;h=506&amp;w=768&amp;sz=67&amp;hl=en&amp;start=13&amp;zoom=1&amp;itbs=1&amp;tbnid=lBUMAblpnyS_WM:&amp;tbnh=94&amp;tbnw=142&amp;prev=/images%3Fq%3Dglee%2Bmash%2Bup%26hl%3Den%26safe%3Dactive%26gbv%3D2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.uk/imgres?imgurl=http://img.over-blog.com/420x519/1/52/29/59/Photos_13/Lady_Gaga_looking_like_Madonna_01.jpg&amp;imgrefurl=http://madonnafansworld.over-blog.com/article-lady-gaga-looking-like-madonna-on-tour-and-in-alejandro-video-51765879.html&amp;usg=__WPlqOZjWZVBH6vtLGRfIq7xo8rU=&amp;h=519&amp;w=420&amp;sz=34&amp;hl=en&amp;start=8&amp;zoom=1&amp;itbs=1&amp;tbnid=ftBF9qOpn4wGAM:&amp;tbnh=131&amp;tbnw=106&amp;prev=/images%3Fq%3Dlady%2Bgaga%2Blooks%2Blike%2Bmadonna%26hl%3Den%26safe%3Dactive%26gbv%3D2%26tbs%3Disch:1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699920"/>
            <a:ext cx="60469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ostmodern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5545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vel Media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96080" y="4476600"/>
            <a:ext cx="3247920" cy="23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hrek and fairy tal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upon a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ily ever af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v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sel and Gre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Riding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der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y and the B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hrek-2-08"/>
          <p:cNvPicPr/>
          <p:nvPr/>
        </p:nvPicPr>
        <p:blipFill>
          <a:blip r:embed="rId1"/>
          <a:stretch/>
        </p:blipFill>
        <p:spPr>
          <a:xfrm>
            <a:off x="5219640" y="1557360"/>
            <a:ext cx="3540240" cy="211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06"/>
          <p:cNvPicPr/>
          <p:nvPr/>
        </p:nvPicPr>
        <p:blipFill>
          <a:blip r:embed="rId2"/>
          <a:stretch/>
        </p:blipFill>
        <p:spPr>
          <a:xfrm>
            <a:off x="5219640" y="4076640"/>
            <a:ext cx="36244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9"/>
          <p:cNvPicPr/>
          <p:nvPr/>
        </p:nvPicPr>
        <p:blipFill>
          <a:blip r:embed="rId1"/>
          <a:stretch/>
        </p:blipFill>
        <p:spPr>
          <a:xfrm>
            <a:off x="1332000" y="112536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0"/>
          <p:cNvPicPr/>
          <p:nvPr/>
        </p:nvPicPr>
        <p:blipFill>
          <a:blip r:embed="rId2"/>
          <a:stretch/>
        </p:blipFill>
        <p:spPr>
          <a:xfrm>
            <a:off x="4788000" y="4005360"/>
            <a:ext cx="3848040" cy="2349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6012000" y="1989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dney Danger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"/>
          <p:cNvPicPr/>
          <p:nvPr/>
        </p:nvPicPr>
        <p:blipFill>
          <a:blip r:embed="rId1"/>
          <a:stretch/>
        </p:blipFill>
        <p:spPr>
          <a:xfrm>
            <a:off x="1600200" y="160020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untitled1"/>
          <p:cNvPicPr/>
          <p:nvPr/>
        </p:nvPicPr>
        <p:blipFill>
          <a:blip r:embed="rId2"/>
          <a:stretch/>
        </p:blipFill>
        <p:spPr>
          <a:xfrm>
            <a:off x="5181480" y="1600200"/>
            <a:ext cx="28576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780000" y="5229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an 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92"/>
          <p:cNvPicPr/>
          <p:nvPr/>
        </p:nvPicPr>
        <p:blipFill>
          <a:blip r:embed="rId1"/>
          <a:stretch/>
        </p:blipFill>
        <p:spPr>
          <a:xfrm>
            <a:off x="5148360" y="18900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93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77"/>
          <p:cNvPicPr/>
          <p:nvPr/>
        </p:nvPicPr>
        <p:blipFill>
          <a:blip r:embed="rId3"/>
          <a:stretch/>
        </p:blipFill>
        <p:spPr>
          <a:xfrm>
            <a:off x="826920" y="249228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76"/>
          <p:cNvPicPr/>
          <p:nvPr/>
        </p:nvPicPr>
        <p:blipFill>
          <a:blip r:embed="rId4"/>
          <a:stretch/>
        </p:blipFill>
        <p:spPr>
          <a:xfrm>
            <a:off x="5580000" y="2781360"/>
            <a:ext cx="266724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7"/>
          <p:cNvPicPr/>
          <p:nvPr/>
        </p:nvPicPr>
        <p:blipFill>
          <a:blip r:embed="rId5"/>
          <a:stretch/>
        </p:blipFill>
        <p:spPr>
          <a:xfrm>
            <a:off x="5364000" y="4581360"/>
            <a:ext cx="2946600" cy="196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18"/>
          <p:cNvPicPr/>
          <p:nvPr/>
        </p:nvPicPr>
        <p:blipFill>
          <a:blip r:embed="rId6"/>
          <a:stretch/>
        </p:blipFill>
        <p:spPr>
          <a:xfrm>
            <a:off x="900000" y="5013360"/>
            <a:ext cx="3733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9"/>
          <p:cNvPicPr/>
          <p:nvPr/>
        </p:nvPicPr>
        <p:blipFill>
          <a:blip r:embed="rId1"/>
          <a:stretch/>
        </p:blipFill>
        <p:spPr>
          <a:xfrm>
            <a:off x="5076720" y="54936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10"/>
          <p:cNvPicPr/>
          <p:nvPr/>
        </p:nvPicPr>
        <p:blipFill>
          <a:blip r:embed="rId2"/>
          <a:stretch/>
        </p:blipFill>
        <p:spPr>
          <a:xfrm>
            <a:off x="1619280" y="620640"/>
            <a:ext cx="177156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everlyHillsCop"/>
          <p:cNvPicPr/>
          <p:nvPr/>
        </p:nvPicPr>
        <p:blipFill>
          <a:blip r:embed="rId3"/>
          <a:stretch/>
        </p:blipFill>
        <p:spPr>
          <a:xfrm>
            <a:off x="1403280" y="350028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onkey"/>
          <p:cNvPicPr/>
          <p:nvPr/>
        </p:nvPicPr>
        <p:blipFill>
          <a:blip r:embed="rId4"/>
          <a:stretch/>
        </p:blipFill>
        <p:spPr>
          <a:xfrm>
            <a:off x="5940360" y="3500280"/>
            <a:ext cx="1535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CO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the process of creating a media text out of a series of artefacts, styles and signs from other media texts or cultural artefacts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o make creative and resourceful use of whatever materials are at hand (regardless of their original purpose)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6237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illboard top 25 Mash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) Merging of genres, styles an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ms based on video games rather than ‘real life’ (Pokemon 1997 and Lara Croft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) An emphasis on image and style rather than narrative and me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) Elements that draw attention to the construction of the media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VD box sets which include DVDs on the making of films along with the actual film, drawing attention to how the film was constru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) Playful and ironic el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56720" y="907920"/>
            <a:ext cx="9712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opr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orporated numerous intertextual references to previous gangster mo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xed the generic elements of gangster movies and soap op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orporated a number of film-like dream sequences giving it a fragmented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7 – Hilary Clinton’s presidential election advert made numerous intertextual references to The Sopr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featured many of the actors from the s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ppeared alongside the Clintons in a scene that replicated the final scene of the s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layful mixing of genres of political broadcast and popular TV is also popular on Youtu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) A mixing of elements of ‘high’ culture within popular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z Luhrmann’s Romeo and Juliet – mixes narratives from ‘high’ culture (Shakespeare play) with a pop video playful and fragmented visual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) Fra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) Diversity of representations and view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67640" y="3141720"/>
            <a:ext cx="12970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definition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85484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cial, political and cultural values that were prevalent at the end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early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postmodern culture there is a greater sense of ‘anything goes’ with audiences constructing their own meanings from a range of cultural and media arte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, styles and icons are taken from another medium and reworked into a new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) PASTICHE and PA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a creation of a media text out of elements of, or with reference to, other media texts in a mocking or caricatured way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dy – aims to mock an original in a critical way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only be effective through our knowledge of the text or genre that is being parodi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ryl Cole – comedy fight for this love c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atch the following trailer for ‘Scary Movie’ – what generic codes and conventions are being parodi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969160"/>
            <a:ext cx="16923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Baudrillard (1983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es that we live in an era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-RE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by the daily world and the world of media are merging and texts seem more real than the reality they seek to conv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world, media merely represents other media – it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ULACR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a media text that makes no attempt to represent reality and merely represents other representation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yberspace and virtual re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e element of post-modern media-saturated culture is cyber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ding an email, purchasing goods online etc takes place in a cyber cul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trix films took this to another level, representing an entire cyber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yberspace has opened up scope for audiences to interact much more actively within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g Activeworlds website – participants can build worlds, visit shops and interact with shopkeepers, meet new friends and construct new id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ystopian view – virtual reality destroys our sense of reality and stifles the development of relation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topian view – the ability to construct identities unrestrained by the restrictions of our physical bodies is the most liberating aspect of cyber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08720" y="5445000"/>
            <a:ext cx="1675080" cy="1254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59280" y="5506920"/>
            <a:ext cx="1494000" cy="11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27280" y="5445000"/>
            <a:ext cx="160344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711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59280" y="3068640"/>
            <a:ext cx="2663640" cy="1368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able element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ostmodern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052640"/>
            <a:ext cx="2230560" cy="180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in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y poli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ra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3933720"/>
            <a:ext cx="3170160" cy="2562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pse of communis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belief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ly plan socie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5013360"/>
            <a:ext cx="21589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curity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789360"/>
            <a:ext cx="2340000" cy="2017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-satu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y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341360"/>
            <a:ext cx="2413080" cy="1727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mphasi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 r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 uniform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836640"/>
            <a:ext cx="2663640" cy="1655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emph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impor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tyle and the vi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89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ntext in which contemporary media texts are pro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84000" y="4005360"/>
            <a:ext cx="574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24360" y="2708280"/>
            <a:ext cx="1152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268000" y="2924280"/>
            <a:ext cx="7909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2565360"/>
            <a:ext cx="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400536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Lyotard (1984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ggests that in a postmodern period, explanations/theories of the world (metanarratives) such as Marxism, capitalism, religion and science have been debunked, leading to greater instability with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w a greater range of religions and interpretations of previously established relig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s can take a pick and mix approach to find a religion that suits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4963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INTERTEXT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*the way in which texts refer to other media texts that producers assume audiences will recognise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diences enjoy recognising and understanding intertext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A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Justin Timberlake borrows dance moves from Michael Jacks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US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DJs remixes of popular songs...or the mash-ups in Gle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ILM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Scary Movie borrows clips from other horror films to create come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ASH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Lady Gaga influenced by Madon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50360" y="3213000"/>
            <a:ext cx="593640" cy="78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80280" y="4941720"/>
            <a:ext cx="963720" cy="6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77080" y="5805360"/>
            <a:ext cx="8510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Intertextu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lways obviou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 can only be recognised if you know what they are referring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, social and linguistic limi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ring their own experiences to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’ll have what she’s havi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mily Gu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G T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30589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969080" cy="3367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484360" y="530064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impsons and Clockwork Or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273480" cy="417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014480" y="1197000"/>
            <a:ext cx="3481200" cy="410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908000" y="5805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dvard Munch – The Sc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508720" y="5805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omer Simpson – The Sc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hrek and popular cul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989000"/>
            <a:ext cx="797544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ous references to American br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rger Prince (Burger 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lde Knavery (Old Nav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 Far  Away sign (Hollywood sig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xon Fifth Avenue (Saks Fifth Aven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sarchery (Vers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p Queen (Gap ki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bucks Coffee Starbuc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6300720" y="5270400"/>
            <a:ext cx="2843280" cy="158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80360" y="2781360"/>
            <a:ext cx="1349280" cy="2071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141300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tch the clip and note any intertextual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58:29Z</dcterms:created>
  <dc:creator>gbrolly940</dc:creator>
  <dc:description/>
  <dc:language>en-US</dc:language>
  <cp:lastModifiedBy>niall</cp:lastModifiedBy>
  <dcterms:modified xsi:type="dcterms:W3CDTF">2010-12-12T15:42:07Z</dcterms:modified>
  <cp:revision>13</cp:revision>
  <dc:subject/>
  <dc:title>Postmodernism</dc:title>
</cp:coreProperties>
</file>